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859-1D40-41B6-A9F6-657A4ABB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B429-7C9C-4F11-98CE-E6D781DA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338-B8B0-4CE5-A36E-32CBDC6A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DE6-904E-4397-8B05-52972050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D974-C766-4871-BE0A-BFEC0249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C9D6-2917-4D65-AA03-75B86A3C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71D8-63E9-425C-9AAF-A5DBDF33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BDA9-8AD0-4CF8-BFD4-22980064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6498-11C3-4BF7-AF7B-FFAAF411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B037-F111-4862-84B5-80CA8865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9372-C9D2-4478-85DE-3FB77486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C6D-BDC0-44A9-BFAA-A28A8BE1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0CC3-8137-4A51-8C7F-1C358248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637A-E40C-4971-9C15-79399E34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CCD4-4F2C-4BEF-BFE3-CA7D3998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D478-9B11-49C9-9DBD-81B9890E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F817-5A70-458A-A2E5-FFF8D783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8E5CA-5451-4B81-BEF1-D45CD41C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705C4-489C-4479-B554-5F5AA0BB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BA437-AC42-436E-9BFE-864D277D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AA48B-C905-45BC-9EAB-70CE371B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6DA1E-3AF5-4B39-A147-A0E64CD9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0FF-AAD0-4B79-A83A-D09E5A98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6BAE5-40B6-4A4D-9157-3CE44836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B5477-12FD-4A80-8E5C-4A24EF2E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FA93E-B792-40F9-8508-F3F10424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2F08C-2A26-43CF-8D2A-360C12BC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6FD04-917B-4422-A608-16BBBE00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026E2-0E6E-4E6D-9C3F-8B66E3DC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FE070-CA08-4906-921C-26311C95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B1FEA-6067-435D-B824-779BD817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34181-48F1-4D6C-9D4E-B037C8C9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B3ECE-4DAE-4684-AB8D-FB8913B7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4975-FCA5-4F46-A6C5-BC28BE45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87F58-45F8-4EB9-8834-36015143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29B53-0442-4935-A7D9-48BA28AF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7DC17-0085-4BAF-8DEB-9BE1DAAC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DE1BC-ACB2-4466-91F0-C49A8400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C6978-0BBC-4A03-B123-14C7083B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D0758-49B1-49C4-AB15-FCE0CDB7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6E785-72C7-49E0-9AF0-D48908C5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BFAC4-CE22-4AC3-B63F-3B8D561D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FCABC-7AC3-4D40-832A-CA11576A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F44E3-16F8-4025-80F1-92BCF2FA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E9D-C1DB-40E6-856D-DE960DB7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988BF-98B3-4DBC-BEF3-8482DC2B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7778F-DA60-4CE1-BC27-8C8961B8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73F75-3E1E-4E04-B7E4-0A3F4061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F30E4-D1C4-462E-95F8-6E13226D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071ED-7973-4BAF-A394-09A09DB4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14CBA-76F4-42C0-8D3B-6929EED9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966C5-4982-440A-810F-D9222BF3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87FA9-554A-47E9-B20A-8325D80B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E9B92-3BE0-4F3C-A367-A39E0DE3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7EB91-8DB5-40E4-99E1-E5B45FE6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23B3-3875-4259-ABEF-D8FE5913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35BD9-89F7-45C1-A6C4-27115652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1E93D-909E-44BE-B7E8-C2FAF1BF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7D407-B886-4196-A9D2-2BA7EE5F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71C36-BF10-43B6-8DB1-851B11EB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B9847-DF9B-42E9-B520-A36408C6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D561F-7884-4996-AA68-02F53339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75BF7-44FD-48E2-AED7-579D7349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AAEC2-EF5C-422F-BBC9-A97DB882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922BE-E718-4C8A-89B5-BC80FCA9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02117-7C1C-4040-B6D7-30FE4C0D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782-989B-40B5-8483-A405BEF8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D0E8E-6522-408F-8F25-5551998D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0A69A-A3B1-4526-8368-DF654A67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C233E-B979-43C3-9C6D-42280F07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4242A-946E-457C-ADF1-E928BED2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223CA-A4F7-47EE-9229-C6293032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ED0D2-6EB5-454B-A341-9BA2A17C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DEA42-D222-4A9F-A7F7-643775BD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1A4D7-5A15-4228-8EC7-A5149C88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771A7-D12D-4893-85A4-2C883C5A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856A4-003A-420C-B888-7EF17AC2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8CA-E094-41A5-8503-88685FE4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E28BC-3487-4C05-A709-12337010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43925-7AEA-4794-8B94-AE44A087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D7257-822E-4405-9CEB-38704C9D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7AECA-4AFB-47F1-B51A-FDC9AE43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5897F-8C2F-46AD-96EE-AA38B231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5805-1737-4C51-BE52-CCF19F0C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FF79-0F4A-4A55-8EE6-4F2924F23D6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AEC1-511A-4681-8A2C-6A869095AA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803E-0B7B-473F-82B2-AEE4586B54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C2D0-8578-46D0-96AB-5E94B0A70DC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44CC-BD2D-424F-9A40-515EF960957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8958-199D-4EA6-BBA9-C76D95BFBB7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CFB2-28A9-4092-99E7-C79E7CC6F25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orbel"/>
              </a:rPr>
              <a:t>Ce alegi?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-85680" y="-73080"/>
            <a:ext cx="8778960" cy="1536840"/>
          </a:xfrm>
          <a:prstGeom prst="rect">
            <a:avLst/>
          </a:prstGeom>
          <a:ln w="0">
            <a:noFill/>
          </a:ln>
        </p:spPr>
      </p:pic>
      <p:pic>
        <p:nvPicPr>
          <p:cNvPr id="336" name="Content Placeholder 3" descr="coke-glass.jpg"/>
          <p:cNvPicPr/>
          <p:nvPr/>
        </p:nvPicPr>
        <p:blipFill>
          <a:blip r:embed="rId2"/>
          <a:stretch/>
        </p:blipFill>
        <p:spPr>
          <a:xfrm>
            <a:off x="0" y="1484280"/>
            <a:ext cx="3567240" cy="5373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water_glass.jpg"/>
          <p:cNvPicPr/>
          <p:nvPr/>
        </p:nvPicPr>
        <p:blipFill>
          <a:blip r:embed="rId3"/>
          <a:stretch/>
        </p:blipFill>
        <p:spPr>
          <a:xfrm>
            <a:off x="5564160" y="1484280"/>
            <a:ext cx="3579840" cy="5373720"/>
          </a:xfrm>
          <a:prstGeom prst="rect">
            <a:avLst/>
          </a:prstGeom>
          <a:ln w="0">
            <a:noFill/>
          </a:ln>
        </p:spPr>
      </p:pic>
      <p:sp>
        <p:nvSpPr>
          <p:cNvPr id="338" name="TextBox 7"/>
          <p:cNvSpPr/>
          <p:nvPr/>
        </p:nvSpPr>
        <p:spPr>
          <a:xfrm>
            <a:off x="3564000" y="2276640"/>
            <a:ext cx="2016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000000"/>
                </a:solidFill>
                <a:latin typeface="Corbel"/>
              </a:rPr>
              <a:t>Preferi Apa sau Coca Cola?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9" descr="coca-cola-mobile-wallpaper.jpg"/>
          <p:cNvPicPr/>
          <p:nvPr/>
        </p:nvPicPr>
        <p:blipFill>
          <a:blip r:embed="rId4"/>
          <a:stretch/>
        </p:blipFill>
        <p:spPr>
          <a:xfrm>
            <a:off x="7885080" y="0"/>
            <a:ext cx="8794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0" y="162864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http://dan-blog.ro/apa-sau-coca-cola.htm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http://www.ziare.com/viata-sanatoasa/sanatate/sucurile-fara-zahar-pericol-pentru-diabetici-172068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http://forum.softpedia.com/lofiversion/index.php/t738616.htm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http://www.news20.ro/articol_Racoritoarele-_fara-zahar_-ii-baga-pe-diabetici-in-spitale_2629.htm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TextBox 3"/>
          <p:cNvSpPr/>
          <p:nvPr/>
        </p:nvSpPr>
        <p:spPr>
          <a:xfrm>
            <a:off x="611280" y="5589720"/>
            <a:ext cx="8281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levi: Ciobanu Iulia şi Zdrafcu Marina, clasa a XI-a C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Liceul de Arte “B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ălaşa Doamna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06" name="Content Placeholder 3" descr="water_glass.jpg"/>
          <p:cNvPicPr/>
          <p:nvPr/>
        </p:nvPicPr>
        <p:blipFill>
          <a:blip r:embed="rId2"/>
          <a:stretch/>
        </p:blipFill>
        <p:spPr>
          <a:xfrm>
            <a:off x="0" y="1484280"/>
            <a:ext cx="3564000" cy="5349960"/>
          </a:xfrm>
          <a:prstGeom prst="rect">
            <a:avLst/>
          </a:prstGeom>
          <a:ln w="0">
            <a:noFill/>
          </a:ln>
        </p:spPr>
      </p:pic>
      <p:sp>
        <p:nvSpPr>
          <p:cNvPr id="307" name="TextBox 4"/>
          <p:cNvSpPr/>
          <p:nvPr/>
        </p:nvSpPr>
        <p:spPr>
          <a:xfrm>
            <a:off x="3995640" y="1700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3564000" y="1484280"/>
            <a:ext cx="5580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...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la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37% d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in americani mecanismul setei e atât de slab că frecvent îl confundă cu foamea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...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lipsa apei e cauza nr.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oboselii din timpul zilei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...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după studiile de la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Universi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tatea din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Washington, 1 vas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 cu apă calmează foamea la aproape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100%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din cazuri aflate sub dieta de slăbi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re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3" descr="water_glass.jpg"/>
          <p:cNvPicPr/>
          <p:nvPr/>
        </p:nvPicPr>
        <p:blipFill>
          <a:blip r:embed="rId2"/>
          <a:stretch/>
        </p:blipFill>
        <p:spPr>
          <a:xfrm>
            <a:off x="0" y="1484280"/>
            <a:ext cx="3579840" cy="5373720"/>
          </a:xfrm>
          <a:prstGeom prst="rect">
            <a:avLst/>
          </a:prstGeom>
          <a:ln w="0">
            <a:noFill/>
          </a:ln>
        </p:spPr>
      </p:pic>
      <p:sp>
        <p:nvSpPr>
          <p:cNvPr id="311" name="TextBox 4"/>
          <p:cNvSpPr/>
          <p:nvPr/>
        </p:nvSpPr>
        <p:spPr>
          <a:xfrm>
            <a:off x="3492360" y="1484280"/>
            <a:ext cx="5759640" cy="69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...alte studii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ştiinţifice arată că luând de la 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8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l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a 10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pahare cu apă pe zi poate calma semnificativ durerile de spate şi ale articulaţiilor la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80% d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in persoanele pe care le au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...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o scădere de doar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2% de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apă din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organism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 poate duce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temporar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 la pierderea memoriei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dificultate în calculele bazice de matematică şi probleme de focalizare în faţa unei pagini imprimate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3" name="Content Placeholder 3" descr="water_glass.jpg"/>
          <p:cNvPicPr/>
          <p:nvPr/>
        </p:nvPicPr>
        <p:blipFill>
          <a:blip r:embed="rId2"/>
          <a:stretch/>
        </p:blipFill>
        <p:spPr>
          <a:xfrm>
            <a:off x="0" y="1484280"/>
            <a:ext cx="3564000" cy="5349960"/>
          </a:xfrm>
          <a:prstGeom prst="rect">
            <a:avLst/>
          </a:prstGeom>
          <a:ln w="0">
            <a:noFill/>
          </a:ln>
        </p:spPr>
      </p:pic>
      <p:sp>
        <p:nvSpPr>
          <p:cNvPr id="314" name="TextBox 4"/>
          <p:cNvSpPr/>
          <p:nvPr/>
        </p:nvSpPr>
        <p:spPr>
          <a:xfrm>
            <a:off x="3995640" y="1700280"/>
            <a:ext cx="48243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...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cel puţin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5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pahare de apă pe zi scade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u 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45% -79%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riscul de cancer la 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colon, cu 79%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riscul de cancer la sân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4356000" y="4005360"/>
            <a:ext cx="43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388c"/>
                </a:solidFill>
                <a:latin typeface="Corbel"/>
              </a:rPr>
              <a:t>Iei zilnic cantitatea necesară de apă sau ai ales s-o înlocuieşti cu sucuri</a:t>
            </a:r>
            <a:r>
              <a:rPr b="1" lang="es-VE" sz="3600" spc="-1" strike="noStrike">
                <a:solidFill>
                  <a:srgbClr val="ff388c"/>
                </a:solidFill>
                <a:latin typeface="Corbe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pic>
        <p:nvPicPr>
          <p:cNvPr id="317" name="Content Placeholder 3" descr="coke-glass.jpg"/>
          <p:cNvPicPr/>
          <p:nvPr/>
        </p:nvPicPr>
        <p:blipFill>
          <a:blip r:embed="rId1"/>
          <a:stretch/>
        </p:blipFill>
        <p:spPr>
          <a:xfrm>
            <a:off x="0" y="1484280"/>
            <a:ext cx="3564000" cy="53672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492360" y="1484280"/>
            <a:ext cx="5651640" cy="67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Î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n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multe state din SUA angajaţii de la direcţia de drumuri păstrează mereu 10 litri de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CocaCola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pentru a elimina sângele de pe şosele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i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n urma unui accident rutier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P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entru a curăţa 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closetul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e de ajuns să se toarne conţinutul unei cutii de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CocaCola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şi se lasă timp de 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30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de minute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apoi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ă drumul la apă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Acidul citric din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CocaCola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curăţă porţelanul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)..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pic>
        <p:nvPicPr>
          <p:cNvPr id="320" name="Content Placeholder 3" descr="coke-glass.jpg"/>
          <p:cNvPicPr/>
          <p:nvPr/>
        </p:nvPicPr>
        <p:blipFill>
          <a:blip r:embed="rId1"/>
          <a:stretch/>
        </p:blipFill>
        <p:spPr>
          <a:xfrm>
            <a:off x="0" y="1484280"/>
            <a:ext cx="3567240" cy="5373720"/>
          </a:xfrm>
          <a:prstGeom prst="rect">
            <a:avLst/>
          </a:prstGeom>
          <a:ln w="0">
            <a:noFill/>
          </a:ln>
        </p:spPr>
      </p:pic>
      <p:sp>
        <p:nvSpPr>
          <p:cNvPr id="321" name="TextBox 4"/>
          <p:cNvSpPr/>
          <p:nvPr/>
        </p:nvSpPr>
        <p:spPr>
          <a:xfrm>
            <a:off x="3564000" y="1484280"/>
            <a:ext cx="5580000" cy="60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P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entru a slăbi un şurub oxidat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pune o cârpă umezită cu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CocaCola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timp de câteva clipe şi şurubul va ieşi fără probleme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P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entru a desprinde orice fel de hârtii,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chiar gumă sau silicon, lipite pe orice suprafaţă de sticlă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, aplic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ă aceeaşi operaţie anterioară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6724800" y="3925800"/>
            <a:ext cx="2425680" cy="29386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pic>
        <p:nvPicPr>
          <p:cNvPr id="324" name="Content Placeholder 3" descr="coke-glass.jpg"/>
          <p:cNvPicPr/>
          <p:nvPr/>
        </p:nvPicPr>
        <p:blipFill>
          <a:blip r:embed="rId2"/>
          <a:stretch/>
        </p:blipFill>
        <p:spPr>
          <a:xfrm>
            <a:off x="0" y="1484280"/>
            <a:ext cx="3564000" cy="5367240"/>
          </a:xfrm>
          <a:prstGeom prst="rect">
            <a:avLst/>
          </a:prstGeom>
          <a:ln w="0">
            <a:noFill/>
          </a:ln>
        </p:spPr>
      </p:pic>
      <p:sp>
        <p:nvSpPr>
          <p:cNvPr id="325" name="TextBox 4"/>
          <p:cNvSpPr/>
          <p:nvPr/>
        </p:nvSpPr>
        <p:spPr>
          <a:xfrm>
            <a:off x="3564000" y="1557360"/>
            <a:ext cx="5580000" cy="53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Ingredientul activ al băuturii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CocaCola es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te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H3PO4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al cărui 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ph es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te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2.8, suficient p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entru a dizolva un cui în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4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zile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Acidul fosforic este foarte dăunător pentru calciul din oase şi reprezintă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unul dintre cei mai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importanti factori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de creştere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a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      osteoporo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zei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TextBox 5"/>
          <p:cNvSpPr/>
          <p:nvPr/>
        </p:nvSpPr>
        <p:spPr>
          <a:xfrm>
            <a:off x="3635280" y="400536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pic>
        <p:nvPicPr>
          <p:cNvPr id="328" name="Content Placeholder 3" descr="coke-glass.jpg"/>
          <p:cNvPicPr/>
          <p:nvPr/>
        </p:nvPicPr>
        <p:blipFill>
          <a:blip r:embed="rId1"/>
          <a:stretch/>
        </p:blipFill>
        <p:spPr>
          <a:xfrm>
            <a:off x="0" y="1484280"/>
            <a:ext cx="3567240" cy="5373720"/>
          </a:xfrm>
          <a:prstGeom prst="rect">
            <a:avLst/>
          </a:prstGeom>
          <a:ln w="0">
            <a:noFill/>
          </a:ln>
        </p:spPr>
      </p:pic>
      <p:sp>
        <p:nvSpPr>
          <p:cNvPr id="329" name="TextBox 4"/>
          <p:cNvSpPr/>
          <p:nvPr/>
        </p:nvSpPr>
        <p:spPr>
          <a:xfrm>
            <a:off x="3780000" y="155736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3564000" y="1484280"/>
            <a:ext cx="55800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Băutura</a:t>
            </a: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 Coca Cola con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ţine şi gaz carbonic  care</a:t>
            </a: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, es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te un ingredient care provoacă</a:t>
            </a: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 “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viciu psihologic</a:t>
            </a: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”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Conţine o substanţă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 ‘poten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ţial vicioasă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’, c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fe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na,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care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 dacă se ia în cantităţi mari 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de la 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400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l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a 600 mg.) p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oate cauza 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insomni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e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, ta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hi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cardi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e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, d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ureri de cap şi chiar stări de nelinişte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O cutie de 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Coca Cola con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ţ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ine aproxima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tiv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 50 mg de cafe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ă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pic>
        <p:nvPicPr>
          <p:cNvPr id="332" name="Content Placeholder 3" descr="coke-glass.jpg"/>
          <p:cNvPicPr/>
          <p:nvPr/>
        </p:nvPicPr>
        <p:blipFill>
          <a:blip r:embed="rId1"/>
          <a:stretch/>
        </p:blipFill>
        <p:spPr>
          <a:xfrm>
            <a:off x="0" y="1484280"/>
            <a:ext cx="3567240" cy="5373720"/>
          </a:xfrm>
          <a:prstGeom prst="rect">
            <a:avLst/>
          </a:prstGeom>
          <a:ln w="0">
            <a:noFill/>
          </a:ln>
        </p:spPr>
      </p:pic>
      <p:sp>
        <p:nvSpPr>
          <p:cNvPr id="333" name="TextBox 4"/>
          <p:cNvSpPr/>
          <p:nvPr/>
        </p:nvSpPr>
        <p:spPr>
          <a:xfrm>
            <a:off x="3564000" y="1484280"/>
            <a:ext cx="5580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ca Cola mai contine si zaharuri daunatoare pentru organism, ducand la obezitate, diabet, dizol-varea lenta a smaltului dintilor et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Iar acelora care cred că pot rezolva problema cu un</a:t>
            </a: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 “co</a:t>
            </a: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l</a:t>
            </a: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a light”, le</a:t>
            </a: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 avem o altă veste</a:t>
            </a: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există studii ştiinţifice care arată că consumul înlocuitorilor de zahăr</a:t>
            </a: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sau zahărul sintetic în cantităţi mari</a:t>
            </a: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 provo</a:t>
            </a: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acă</a:t>
            </a: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leziuni cerebrale</a:t>
            </a: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, p</a:t>
            </a: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ierderi de memorie</a:t>
            </a: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şi</a:t>
            </a: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 confu</a:t>
            </a: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zie</a:t>
            </a: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 mental</a:t>
            </a: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12" descr="diet-coke-bottle"/>
          <p:cNvPicPr/>
          <p:nvPr/>
        </p:nvPicPr>
        <p:blipFill>
          <a:blip r:embed="rId2"/>
          <a:stretch/>
        </p:blipFill>
        <p:spPr>
          <a:xfrm>
            <a:off x="2627280" y="4005360"/>
            <a:ext cx="7794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0:58:27Z</dcterms:created>
  <dc:creator>Corporate Edition</dc:creator>
  <dc:description/>
  <dc:language>en-US</dc:language>
  <cp:lastModifiedBy>Corporate Edition</cp:lastModifiedBy>
  <dcterms:modified xsi:type="dcterms:W3CDTF">2011-02-23T21:15:41Z</dcterms:modified>
  <cp:revision>14</cp:revision>
  <dc:subject/>
  <dc:title>Apă versus Cola</dc:title>
</cp:coreProperties>
</file>